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0E1-1942-4E19-8543-0DE18323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A2E-9ADF-495F-90D4-2AAC70C7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BA2-09AA-422B-BA2E-2D040999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91F-B274-405B-A6AF-74C3CAF2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DE5-0927-4B29-8DFA-23A00534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798-644E-4E2B-A822-AF495E3B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1A1-B9CF-4C4F-B21D-9C6FBC7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607-7C22-4C75-9C39-4D140230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009-ADA0-4550-AFF5-8D9A9279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1BB-5AAA-45E6-BDE2-9FDE454C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22F-2293-4D6B-8C80-7B8C0E2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57D-0A4C-45E8-9848-EDFDBFC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CE7-05C7-4DA2-BE9A-93FC3AE4D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Implicações na Educa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276640"/>
            <a:ext cx="7632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icipação ativa do suje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tação das diferenças individu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endizagem cooper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ividades entre estudantes em diferentes níveis de competênc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ompanhamento e utilização da ZDP da crianç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endizagem em contextos significa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formação da sala de a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413000"/>
            <a:ext cx="853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41:03Z</dcterms:created>
  <dc:creator>Edai novo 3</dc:creator>
  <dc:description/>
  <dc:language>en-US</dc:language>
  <cp:lastModifiedBy>Edai novo 3</cp:lastModifiedBy>
  <dcterms:modified xsi:type="dcterms:W3CDTF">2010-10-05T22:41:07Z</dcterms:modified>
  <cp:revision>1</cp:revision>
  <dc:subject/>
  <dc:title>Implicações na Educação</dc:title>
</cp:coreProperties>
</file>